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4D0-674E-439D-8DA2-264C4C4D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5EA-C4A7-47D5-8E24-B224B120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8C9-24F5-4C43-BFCB-CE54BE6E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FCC-1521-4D33-9112-2A29A3A4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3968-74D6-413E-AB37-E0C656C5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6D15-022B-4DAE-9A09-CD166EBA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8164-2A9B-4E59-B528-85901697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AB37-2D33-4CF7-A141-46B6949B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171A-8F3F-49EF-929F-5D913EA3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B044-E7A1-4BD3-BA66-DFCC1C81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671B-4D8F-4597-9FAB-7BA44FD8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47F-38AA-4FBA-B128-C0B76967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6DCF-771D-4DE8-9FF5-F09A2F65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01EB-BF7A-4050-A41D-0E74F531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E785-51CF-4E85-AE7E-4BF8B25D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49DA-912E-4C2A-9716-4483CF4A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AD7A-8D8E-4C17-9D16-5C1B12CD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8292-0464-45ED-8226-92729A6F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2FFB-E859-439F-859E-CF3308DF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9281-F7E4-4025-BA53-9162496B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0A4D-BF0B-47F4-AFE8-36D20C95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EDBB4-BED5-45BC-8908-08DADD1A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853-FE1F-4E62-B909-F1E5D6AB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19D5-86DA-4359-91EA-6FF0F337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BE5E-0C2D-42F7-A617-DC6AE61B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C359-2408-441C-9B73-7EF5E6E2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84255-9DDA-45B2-A9AB-AD6B9908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6AD9-9ECF-45DB-88B4-ECA32469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83CA-2C3E-448E-9847-E20C14E9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63EEE-AE61-40B0-9D9D-6BF06DFC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717EC-574D-4075-AC40-CF2BD159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97A81-7802-46C7-9F5B-98B035B9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345AD-1DAE-4D8D-AE4F-00098DE1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9E0-A884-4813-9211-09C22F70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45C37-FD3C-42EB-B2DD-EDE084C9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5CE88-69B7-4593-8728-417C8C4C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77B62-6EA8-4D7A-AE46-13C9831E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6C4F3-A4D3-4866-B876-F03E5719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F013-E0AC-46EE-BA5C-0C500EC6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9C21E-6B03-4EFA-A3F3-28C39F80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3D0B-0337-4209-94B7-AA1875ED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D66EC-15F3-4A32-82DA-C16D998D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9A73C-4F68-4675-A6CC-FEC3E156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9FDF8-1679-4BEC-AF81-D674CD09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674-205E-42AB-92CF-8C51BEFD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F1AE-EDAD-4498-AF31-C6F71B14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0F76A-55D9-4BF7-B8E8-30117A73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6EDFB-5027-41DB-A3C4-A55CF5C9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82E2E-7225-4D41-BCF5-DDBA81D8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2F9F-6BA6-44F9-8A7D-579C8145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CA4F2-2BEC-441D-80F8-4E34EF31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9D280-19BC-4EEC-82E0-D2E5674C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34851-E4F3-470E-8B82-D85B8B30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B6965-7BEE-47F9-B7FB-2F1D46AB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430E3-AA14-465B-B61D-776C726D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69C-8BC8-4178-A643-F5494C82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501A5-9D9B-4732-9DC4-4D9A35B3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6E230-06C9-4949-AFE0-1C162F83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F29C-6C2A-4D98-B4DD-796B1BB2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5CAF9-C23D-475A-872B-8E5DB389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DFF28-0160-4961-8220-665D81DA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58357-5179-43EA-A880-401874BB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EE396-20EF-4572-9A6A-015455FD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40F55-D794-4D27-A92C-1CA8841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35920-9152-45E6-827C-908EB259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3DFCB-3B86-4099-956F-79247E0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476-921E-4824-BA10-64E1D0D4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ABD37-6951-4776-880E-27883920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63249-32D8-47E7-B10E-DE40A2EF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DF4B6-F154-452C-9C0C-BF962AB8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17619-3661-4D4C-B80F-05DBF83C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1199A-53F6-4C8C-9F14-E90C60EA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D3AD-A8EF-454C-9492-DC5192E2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DBE2E-852B-4111-BD84-CA86246B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33C4B-A410-4858-AE54-4161B9DA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9760A-3C15-42B3-B447-D9B3F930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3A961-26A9-4A4D-9EBC-639D9DFF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2CD-EBCF-41E9-A642-DED1315F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06DD3-CAB6-42A8-8193-5CBE05C1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AEF11-569B-4F8F-943F-93B7C278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086A0-51B9-4310-90D1-2DD6E63B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748F9-D4C1-411B-92C1-424609D6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F46A3-E182-4AB1-84C0-219F49C1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CE4FA-480A-43AB-A457-02278C54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09478-D59D-406A-9E65-9D82BD1B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E822B-196A-4366-9355-D1FF0C21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DA501-53C6-493E-B1AA-EFCA64CD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8E10E-5C44-4E68-9A31-104F31E8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7CA-3AB0-4246-84F9-51A7FD9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A9251-56C3-4277-AEB5-92043CB0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88ACF-BAB0-43FB-9B89-4BC175A1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46EE4-AFFB-4BFA-8E42-CFC48DC4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FDF5A-7C62-49A2-9D4F-872396E9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24883-65B0-47B6-A251-C0BB1F5A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E58E7-6F39-4D9F-A4B7-ABFC432C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BC33D-D73A-4A5D-A41A-409BE80A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B267-BD9F-4AFD-A9EC-59B765D08E9E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3FB2-1A96-48B6-8AB4-2616833E0E63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ECE5-A6CB-4865-9BA5-5BD0411CA933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7B69-63D1-45A4-9C62-EBA75AE03E82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4E83-519E-41B8-9F43-675D8747B4B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FFFE-8149-4E0F-8CE4-1BAD0ED11A1B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F210-30AA-4CD3-A6AC-E3544A7CB030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2941-348B-46BD-8609-2FF911F10E0A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85196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ain purpose of an economic system is to answer these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goods and services do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people need or wa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can we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produ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these goods and servic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we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distribu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h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eeds would be defined as goods o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rvices that are required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(food, clothing, shelter, health ca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nts are goods or services that a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ot necessary but that we desire o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ish fo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e needs clothes, but one may not need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signer clothe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e needs food, but does not have to have steak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r desser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457200" y="1481040"/>
          <a:ext cx="8229600" cy="375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W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38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ufacturing, mining or growing something (usually in large quantities) for sal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can also be selling ideas, information or knowledge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you get the thing you produced to th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who want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2:53:46Z</dcterms:created>
  <dc:creator>ladmin</dc:creator>
  <dc:description/>
  <dc:language>en-US</dc:language>
  <cp:lastModifiedBy>Terry, Sean J. (ASD-E)</cp:lastModifiedBy>
  <dcterms:modified xsi:type="dcterms:W3CDTF">2015-09-25T01:14:00Z</dcterms:modified>
  <cp:revision>59</cp:revision>
  <dc:subject/>
  <dc:title>Economic Empowerment</dc:title>
</cp:coreProperties>
</file>